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81B-0638-47C1-88A2-EED1C008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DB86-747F-45D5-AEDF-51D56B20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B58-4E69-4B97-A38C-2229B6A6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1E8-A1B1-4381-BFE6-9BDC9CA1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1300-248B-4378-94EC-76BD3FD7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8DEE-E15B-455B-91B4-7212B696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D2EF-A5E2-4DA2-A9C2-9D8455F1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32CE-18E8-4A01-9406-582C02A2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6D63-8547-4BAD-B894-29C19F3E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164E-051C-44EC-8261-959C7A48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FE42-7EBD-4319-8808-E3B57881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8ED-944A-420B-A32C-F50FC715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BA1D-1D9C-4F10-AF34-DFFC3425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A021-9A42-45C1-BAC6-17FDE14C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36DA-A1D8-4A15-B933-98CFC72F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3E74-98CD-4041-9B73-010678E4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3670-2424-4C22-9E0C-00BCDEF4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F94-AA5D-48CC-AD45-59759E1A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2EC-8030-43AF-9B85-8359168E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DE9-6CCF-4FF8-A101-32CFE275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572-07F5-4CBF-B4AE-CB8EA71C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54D-C404-416E-AF00-2AAC05B4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784-9263-404F-B7FF-B8D379E9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733-DE72-4030-9AEA-4BE9B9E6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B2E0-C54E-40BB-8B7C-AA888DE0F7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5BDC-A972-482D-8255-0F70FFAB74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9840" y="265752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SKRACANIE UŁAMK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5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DA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81280" y="954000"/>
            <a:ext cx="69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la z Anią przyrządzały sałatkę owocową. Jola użyła    pomarańczy, natomiast Ania    . Czy obie dziewczynki użyły takiej samej ilości pomarańczy do swoich sałate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842000" y="1224000"/>
                <a:ext cx="2235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316640" y="954000"/>
                <a:ext cx="243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1" name="Obraz 149" descr=""/>
          <p:cNvPicPr/>
          <p:nvPr/>
        </p:nvPicPr>
        <p:blipFill>
          <a:blip r:embed="rId1"/>
          <a:stretch/>
        </p:blipFill>
        <p:spPr>
          <a:xfrm>
            <a:off x="2592360" y="1898640"/>
            <a:ext cx="4051440" cy="1357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62360" y="32418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5560" y="3249720"/>
            <a:ext cx="31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716280" y="3249720"/>
                <a:ext cx="152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33480" y="4059360"/>
            <a:ext cx="1247760" cy="128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677000" y="4059360"/>
            <a:ext cx="1225800" cy="1261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50920" y="3736800"/>
            <a:ext cx="77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zedstawmy użyte ilości pomarańczy przez dziewczynki za pomocą figu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57360" y="4238640"/>
            <a:ext cx="67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 figurach zostały zamalowane w takich samych części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457360" y="4745160"/>
            <a:ext cx="4861080" cy="393480"/>
            <a:chOff x="2457360" y="4745160"/>
            <a:chExt cx="4861080" cy="39348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7075440" y="4745160"/>
                  <a:ext cx="1526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2457360" y="4745160"/>
              <a:ext cx="48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usimy doprowadzić ułamek    do postac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770440" y="4745160"/>
                  <a:ext cx="1526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699160" y="3203640"/>
                <a:ext cx="152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27000" y="554364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żemy zatem napis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400560" y="5408640"/>
                <a:ext cx="1485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202360" y="5454720"/>
            <a:ext cx="35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konaliśmy czynność zwaną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kracaniem uła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67000" y="6264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Wnios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366640" y="5094360"/>
            <a:ext cx="2384280" cy="49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95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36640" y="1494000"/>
            <a:ext cx="6166080" cy="4508280"/>
            <a:chOff x="1736640" y="1494000"/>
            <a:chExt cx="6166080" cy="4508280"/>
          </a:xfrm>
        </p:grpSpPr>
        <p:graphicFrame>
          <p:nvGraphicFramePr>
            <p:cNvPr id="123" name=""/>
            <p:cNvGraphicFramePr/>
            <p:nvPr/>
          </p:nvGraphicFramePr>
          <p:xfrm>
            <a:off x="1736640" y="1494000"/>
            <a:ext cx="6166080" cy="450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6640" y="1494000"/>
                      <a:ext cx="6166080" cy="450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2185920" y="2135160"/>
              <a:ext cx="5580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Skracając ułamek należy </a:t>
              </a:r>
              <a:r>
                <a:rPr b="1" lang="en-US" sz="4000" spc="-1" strike="noStrike">
                  <a:solidFill>
                    <a:srgbClr val="3333cc"/>
                  </a:solidFill>
                  <a:latin typeface="Arial"/>
                </a:rPr>
                <a:t>licznik i mianownik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ułamka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podzielić przez tą samą liczb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UŁAMKI NIESKRACAL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0920" y="1359000"/>
            <a:ext cx="805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łamki, których nie można skrócić nazywam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łamkami nieskracalny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050920" y="2965320"/>
                <a:ext cx="5986440" cy="17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701640" y="2349360"/>
            <a:ext cx="31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zykł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17720" y="5273640"/>
            <a:ext cx="585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zy zauważyłeś coś ciekaweg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8T21:15:15Z</dcterms:modified>
  <cp:revision>49</cp:revision>
  <dc:subject/>
  <dc:title>Slajd 1</dc:title>
</cp:coreProperties>
</file>